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71D-4035-45DB-9600-38899581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DDC-977A-4857-A0B7-C2D6DED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B7A-E61B-47EB-82D1-D3AF0B75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5D8-9199-4EE9-9C87-2CD72C9B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235-8BAE-4FB4-A0BE-5491A24A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B04-F09F-4F18-8AD0-14190309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CE1-3515-4340-9BA6-A2EBD79B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BA6-16DF-4AAA-B9BD-169FA33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A6B-FCA6-4DB5-8DE9-DEE44DD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2FF-F494-4FD4-A88A-C5C892AD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0DE-1B7C-4F51-A4A3-83238F2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C68-5D78-44BF-AA57-B4A7B1C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05D6-0684-4D86-9D22-AF541D8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A280-B84D-4E39-B250-B963376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9664-60C9-46DD-B0EC-6049D3F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19C-5511-49F6-ABD3-B460227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5451-3B18-44D7-9292-E6CB57FF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015-FA97-4F1C-A861-F4AE68F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B50-26A7-46EE-B52E-C043715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285-627A-43FA-9D2E-61A6B00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299-B029-48DB-B57E-C4F4319B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FB8-E1C5-42C8-9962-EB8C473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2B4-E97F-4B21-9335-D8F8A66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569-379C-4B31-A25A-8CDA6617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1CF-524A-49A6-8BAB-5ACDAB28F0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99B4-9A81-42ED-911F-5D50E8E1ED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VEN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DEC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TRA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di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tra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240" y="48006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720" y="472428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CONDUC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condu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0033"/>
                </a:solidFill>
                <a:latin typeface="Times New Roman"/>
              </a:rPr>
              <a:t>TRADUC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tradu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Pr</a:t>
            </a:r>
            <a:r>
              <a:rPr b="0" lang="en-US" sz="5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áctica: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che m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 y yo _____________ (poner) la m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né y Laura _______________ (andar) a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 equipo __________ (venir) a las cua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amigo no ____________ (decir)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 no _____________ (querer) hacer la t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tina no ______________ (poder) ir con nos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na y Ricardo ____________ (traer) la sal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whole set of irregular preterit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verbs have NO ACCE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dings for irregular preterite verb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, iste, o, imos, isteis, i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AND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EST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C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hi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19920" y="281952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D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QUER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TE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09:12Z</dcterms:created>
  <dc:creator>Suzanne M. Shirley</dc:creator>
  <dc:description/>
  <dc:language>en-US</dc:language>
  <cp:lastModifiedBy>jbarber</cp:lastModifiedBy>
  <dcterms:modified xsi:type="dcterms:W3CDTF">2009-10-05T11:58:12Z</dcterms:modified>
  <cp:revision>11</cp:revision>
  <dc:subject/>
  <dc:title>Irregular Preterite Verbs</dc:title>
</cp:coreProperties>
</file>